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4825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349E2-D231-487D-90C7-37FA1B568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7D38A-6D26-4EB4-A519-C1D1ABD54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58F6E-237F-4CBE-96F7-136A666C1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EF3CD-101D-45A3-B5DE-6AA24C458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EB8D5-072D-4F45-B2ED-BB5AF5E94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0D75A-5B23-4836-B14E-3048E61BC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8DC1D-12B0-40A6-B051-40C4BD6F1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31CA4-1B27-43F4-912F-D234159EA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16671-A878-4AB9-BF24-C31A68665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FDA1D-99D4-4129-B5BE-6AA6D0E9D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FE605-90AE-443A-B5C2-190277978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320EA-8736-4485-BEB5-D8706CFFB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5D5AC-3145-4F9E-9D84-A4ECAB1F08A2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image" Target="../media/image1.png"/><Relationship Id="rId16" Type="http://schemas.openxmlformats.org/officeDocument/2006/relationships/image" Target="../media/image1.png"/><Relationship Id="rId17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1988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ahoma"/>
                <a:cs typeface="PT Bold Heading"/>
              </a:rPr>
              <a:t>الفصل الاو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PT Bold Heading"/>
              </a:rPr>
              <a:t>ماهية التقارير المالية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PT Bold Heading"/>
              </a:rPr>
              <a:t>والمستفيدون منها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PT Bold Heading"/>
              </a:rPr>
              <a:t>وأهدافه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867280" y="6237360"/>
            <a:ext cx="2895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741600" y="1333440"/>
            <a:ext cx="7660800" cy="1031400"/>
          </a:xfrm>
          <a:prstGeom prst="rect">
            <a:avLst/>
          </a:prstGeom>
          <a:solidFill>
            <a:srgbClr val="ebd1a1"/>
          </a:solidFill>
          <a:ln w="76320">
            <a:solidFill>
              <a:srgbClr val="6600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هدف من التقارير المالي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739080" y="3130920"/>
            <a:ext cx="7580160" cy="225108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r" rtl="1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ea typeface="PT Bold Heading"/>
              </a:rPr>
              <a:t>  اظهار نتيجة نشاط المنشأة والمركز المالي والتغيرات في المركز المالي بكل عدالة ووضوح في ضوء المبادئ المحاسبية المقبول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ea typeface="PT Bold Heading"/>
              </a:rPr>
              <a:t>  إمداد المستفيدين بمعلومات موثوق بها عن نشاط المنشأة ومركزها المالي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012000" y="646128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629240" y="115920"/>
            <a:ext cx="426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9090d"/>
                </a:solidFill>
                <a:latin typeface="Times New Roman"/>
                <a:cs typeface="Andalus"/>
              </a:rPr>
              <a:t>الفصل الأول: ماهية التقارير المالية والمستفيدون منه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685800" y="771480"/>
            <a:ext cx="7772760" cy="908280"/>
          </a:xfrm>
          <a:prstGeom prst="rect">
            <a:avLst/>
          </a:prstGeom>
          <a:solidFill>
            <a:srgbClr val="eaeaea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خصائص النوعية للمعلومات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975040" y="2421000"/>
            <a:ext cx="3181320" cy="3868560"/>
          </a:xfrm>
          <a:prstGeom prst="rect">
            <a:avLst/>
          </a:prstGeom>
          <a:solidFill>
            <a:srgbClr val="eaeaea"/>
          </a:soli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 rtl="1">
              <a:lnSpc>
                <a:spcPct val="15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ملائم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5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تحق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5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عدم التحي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5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قابلية للفه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5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توقي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5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مقارن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940360" y="6461280"/>
            <a:ext cx="2895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629240" y="115920"/>
            <a:ext cx="426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9090d"/>
                </a:solidFill>
                <a:latin typeface="Times New Roman"/>
                <a:cs typeface="Andalus"/>
              </a:rPr>
              <a:t>الفصل الأول: ماهية التقارير المالية والمستفيدون منه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B1C5B-2E74-4F35-B0E1-5397D57EFFE2}" type="slidenum">
              <a:t>11</a:t>
            </a:fld>
          </a:p>
        </p:txBody>
      </p:sp>
    </p:spTree>
  </p:cSld>
  <p:transition>
    <p:random/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764640"/>
            <a:ext cx="7772760" cy="1200240"/>
          </a:xfrm>
          <a:prstGeom prst="rect">
            <a:avLst/>
          </a:prstGeom>
          <a:solidFill>
            <a:srgbClr val="eaeaea"/>
          </a:soli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عوامل المؤثرة على الهدف من التقارير المال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822320" y="2973240"/>
            <a:ext cx="5486400" cy="3264120"/>
          </a:xfrm>
          <a:prstGeom prst="rect">
            <a:avLst/>
          </a:prstGeom>
          <a:solidFill>
            <a:srgbClr val="eaeaea"/>
          </a:soli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 rtl="1">
              <a:lnSpc>
                <a:spcPct val="15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منظمات المهن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5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جهات المشرفة على البورص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5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نظام الاقتصادي السائ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5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تضخ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5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تدخل الحكوم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5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940360" y="6461280"/>
            <a:ext cx="2895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629240" y="115920"/>
            <a:ext cx="426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9090d"/>
                </a:solidFill>
                <a:latin typeface="Times New Roman"/>
                <a:cs typeface="Andalus"/>
              </a:rPr>
              <a:t>الفصل الأول: ماهية التقارير المالية والمستفيدون منه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96BD2-ADEB-4DA5-88BF-34A3D9740AAA}" type="slidenum">
              <a:t>12</a:t>
            </a:fld>
          </a:p>
        </p:txBody>
      </p:sp>
    </p:spTree>
  </p:cSld>
  <p:transition>
    <p:random/>
  </p:transition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768960" y="1410480"/>
            <a:ext cx="7693200" cy="717840"/>
          </a:xfrm>
          <a:prstGeom prst="rect">
            <a:avLst/>
          </a:prstGeom>
          <a:solidFill>
            <a:srgbClr val="eaeaea"/>
          </a:solidFill>
          <a:ln w="38160">
            <a:solidFill>
              <a:srgbClr val="6600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حدود التقارير المال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4360" y="2637000"/>
            <a:ext cx="7775280" cy="3574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cccff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r" rtl="1">
              <a:lnSpc>
                <a:spcPct val="15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 التكلفة التاريخ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r" rtl="1"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 المخصصا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r" rtl="1"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 تعدد الطرق المحاسب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r" rtl="1"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 التوقي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r" rtl="1"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 عدم اشتمالها على بعض الأصول (الموارد البشرية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r" rtl="1"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 اللغة التي تعد على أساسها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r" rtl="1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012000" y="646128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629240" y="115920"/>
            <a:ext cx="426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9090d"/>
                </a:solidFill>
                <a:latin typeface="Times New Roman"/>
                <a:cs typeface="Andalus"/>
              </a:rPr>
              <a:t>الفصل الأول: ماهية التقارير المالية والمستفيدون منه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0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741600" y="1617480"/>
            <a:ext cx="7660800" cy="1031400"/>
          </a:xfrm>
          <a:prstGeom prst="rect">
            <a:avLst/>
          </a:prstGeom>
          <a:solidFill>
            <a:srgbClr val="eaeaea"/>
          </a:solidFill>
          <a:ln w="57240">
            <a:solidFill>
              <a:srgbClr val="6600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هدف المقر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725400" y="3486960"/>
            <a:ext cx="7607520" cy="1764360"/>
          </a:xfrm>
          <a:prstGeom prst="rect">
            <a:avLst/>
          </a:prstGeom>
          <a:solidFill>
            <a:srgbClr val="eaeaea"/>
          </a:solidFill>
          <a:ln w="57240">
            <a:solidFill>
              <a:srgbClr val="0066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تمكين الدارسين من التعرف على الأساليب العلمية المستخدمة في تحليل وتفسير القوائم المالية (التحليل المالي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629240" y="115920"/>
            <a:ext cx="426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9090d"/>
                </a:solidFill>
                <a:latin typeface="Times New Roman"/>
                <a:cs typeface="Andalus"/>
              </a:rPr>
              <a:t>الفصل الأول: ماهية التقارير المالية والمستفيدون منه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867280" y="6237360"/>
            <a:ext cx="289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18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18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18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68360" y="2638440"/>
            <a:ext cx="7989840" cy="3166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3a7ff"/>
              </a:gs>
              <a:gs pos="50000">
                <a:srgbClr val="ffffff"/>
              </a:gs>
              <a:gs pos="100000">
                <a:srgbClr val="d3a7ff"/>
              </a:gs>
            </a:gsLst>
            <a:lin ang="5400000"/>
          </a:gra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قوائم المالية جزء لا يتجزأ من التقارير المالي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تعتبر القوائم المالية عصب التقارير المال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تقارير المالية أعم من القوائم المالية فهي تشمل التقارير المالية ومعلومات أخرى مالية وغير مالية مثل المعلومات عن النشاط التسويقي والإنتاجي للمنشأة وتقرير مجلس الإدارة وتقرير المراجع الخارجي ...ال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سئولية المراجع فقط عن القوائم المالية والملاحظات المرفقة بها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940360" y="6461280"/>
            <a:ext cx="2895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39640" y="1125360"/>
            <a:ext cx="7993080" cy="86364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 rtl="1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ا الفرق بين التقارير المالية والقوائم المالي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29240" y="115920"/>
            <a:ext cx="426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9090d"/>
                </a:solidFill>
                <a:latin typeface="Times New Roman"/>
                <a:cs typeface="Andalus"/>
              </a:rPr>
              <a:t>الفصل الأول: ماهية التقارير المالية والمستفيدون منه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A4065-3CEC-4DEA-8E75-58F13DCC2A00}" type="slidenum">
              <a:t>3</a:t>
            </a:fld>
          </a:p>
        </p:txBody>
      </p:sp>
    </p:spTree>
  </p:cSld>
  <p:transition>
    <p:random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5003640" y="2016000"/>
            <a:ext cx="3581640" cy="76536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0320" y="609120"/>
            <a:ext cx="7772400" cy="1143000"/>
          </a:xfrm>
          <a:prstGeom prst="rect">
            <a:avLst/>
          </a:prstGeom>
          <a:solidFill>
            <a:srgbClr val="ccccff"/>
          </a:solidFill>
          <a:ln w="76320">
            <a:solidFill>
              <a:srgbClr val="6600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حتويات التقارير المال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067280" y="3105000"/>
            <a:ext cx="3529080" cy="82872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تقرير المراج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646360" y="4221000"/>
            <a:ext cx="3581280" cy="86688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تقرير مجلس الادار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26920" y="5300640"/>
            <a:ext cx="4267440" cy="83808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تقرير الادارة التنفيذ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2050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 rtl="1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 rtl="1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قوائم المال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940360" y="6237360"/>
            <a:ext cx="2895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0" y="115920"/>
            <a:ext cx="4264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9090d"/>
                </a:solidFill>
                <a:latin typeface="Times New Roman"/>
                <a:cs typeface="Andalus"/>
              </a:rPr>
              <a:t>الفصل الأول: ماهية التقارير المالية والمستفيدون منه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59346-C6B8-4F8F-96A8-74A77FB48F95}" type="slidenum">
              <a:t>4</a:t>
            </a:fld>
          </a:p>
        </p:txBody>
      </p:sp>
    </p:spTree>
  </p:cSld>
  <p:transition>
    <p:random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539280" y="549000"/>
            <a:ext cx="7993440" cy="690120"/>
          </a:xfrm>
          <a:prstGeom prst="rect">
            <a:avLst/>
          </a:prstGeom>
          <a:solidFill>
            <a:srgbClr val="eaeaea"/>
          </a:solidFill>
          <a:ln w="38160">
            <a:solidFill>
              <a:srgbClr val="6600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أولاً: القوائم المال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30200" y="2671560"/>
            <a:ext cx="3819600" cy="649080"/>
          </a:xfrm>
          <a:prstGeom prst="rect">
            <a:avLst/>
          </a:prstGeom>
          <a:solidFill>
            <a:srgbClr val="eaeaea"/>
          </a:solidFill>
          <a:ln w="38160">
            <a:solidFill>
              <a:srgbClr val="000066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مفاهيم التي تؤثر على شكل ومحتوى القوائم المالي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5254560" y="2673360"/>
            <a:ext cx="3168720" cy="649440"/>
          </a:xfrm>
          <a:prstGeom prst="rect">
            <a:avLst/>
          </a:prstGeom>
          <a:solidFill>
            <a:srgbClr val="eaeaea"/>
          </a:solidFill>
          <a:ln w="38160">
            <a:solidFill>
              <a:srgbClr val="000066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عناصر القوائم المال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292720" y="3836880"/>
            <a:ext cx="3166920" cy="2376720"/>
          </a:xfrm>
          <a:prstGeom prst="rect">
            <a:avLst/>
          </a:prstGeom>
          <a:solidFill>
            <a:srgbClr val="eaeaea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 rtl="1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أصول (الموجودات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التزامات (المطلوبات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حقوق الملك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إيرادا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مصروفا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صافي الدخل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484360" y="3836880"/>
            <a:ext cx="1800360" cy="2376720"/>
          </a:xfrm>
          <a:prstGeom prst="rect">
            <a:avLst/>
          </a:prstGeom>
          <a:solidFill>
            <a:srgbClr val="eaeaea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r" rtl="1">
              <a:spcBef>
                <a:spcPts val="499"/>
              </a:spcBef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دور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99"/>
              </a:spcBef>
              <a:buSzPct val="10279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تحقق الإيراد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99"/>
              </a:spcBef>
              <a:buSzPct val="10279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مقابل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99"/>
              </a:spcBef>
              <a:buSzPct val="10279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وحدة المحاسب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99"/>
              </a:spcBef>
              <a:buSzPct val="10279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قياس النقدي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3838680"/>
            <a:ext cx="1873080" cy="2398680"/>
          </a:xfrm>
          <a:prstGeom prst="rect">
            <a:avLst/>
          </a:prstGeom>
          <a:solidFill>
            <a:srgbClr val="eaeaea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 marL="343080" indent="-343080" algn="r" rtl="1">
              <a:spcBef>
                <a:spcPts val="451"/>
              </a:spcBef>
              <a:buSzPct val="10281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51"/>
              </a:spcBef>
              <a:buSzPct val="10281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تكلفة التاريخي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51"/>
              </a:spcBef>
              <a:buSzPct val="10281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إفصاح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51"/>
              </a:spcBef>
              <a:buSzPct val="10281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أهمية النسبي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51"/>
              </a:spcBef>
              <a:buSzPct val="10281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تحفظ (الحيطة والحذر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940360" y="6461280"/>
            <a:ext cx="2895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39640" y="1601640"/>
            <a:ext cx="7993080" cy="71928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294840" indent="-294840" algn="ctr" rtl="1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ct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قائمة المركز المالي – قائمة الدخل – قائمة التدفقات النقدية – قائمة الأرباح المحتجز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732720" y="3429000"/>
            <a:ext cx="43164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132000" y="3429000"/>
            <a:ext cx="43200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187280" y="3429000"/>
            <a:ext cx="43200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629240" y="115920"/>
            <a:ext cx="426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9090d"/>
                </a:solidFill>
                <a:latin typeface="Times New Roman"/>
                <a:cs typeface="Andalus"/>
              </a:rPr>
              <a:t>الفصل الأول: ماهية التقارير المالية والمستفيدون منه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99C3C-537C-4A36-9C3A-9B68C7631CB3}" type="slidenum">
              <a:t>5</a:t>
            </a:fld>
          </a:p>
        </p:txBody>
      </p:sp>
    </p:spTree>
  </p:cSld>
  <p:transition>
    <p:random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74560" y="1268280"/>
            <a:ext cx="7993080" cy="1035360"/>
          </a:xfrm>
          <a:prstGeom prst="downArrowCallout">
            <a:avLst>
              <a:gd name="adj1" fmla="val -180360"/>
              <a:gd name="adj2" fmla="val 193002"/>
              <a:gd name="adj3" fmla="val 16667"/>
              <a:gd name="adj4" fmla="val 66667"/>
            </a:avLst>
          </a:prstGeom>
          <a:solidFill>
            <a:srgbClr val="eaeaea"/>
          </a:solidFill>
          <a:ln w="381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ثانياً: تقرير مراقب الحسابات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940360" y="6461280"/>
            <a:ext cx="2895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74560" y="2708280"/>
            <a:ext cx="7993080" cy="266220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 rtl="1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يتضمن نتيجة الفحص للقوائم المالية من حيث مدى دقة المعلومات التي تحتويها ومدى تمثيلها بصدق وعدالة للمركز المالي للمشروع ونتيجة نشاطه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629240" y="115920"/>
            <a:ext cx="426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9090d"/>
                </a:solidFill>
                <a:latin typeface="Times New Roman"/>
                <a:cs typeface="Andalus"/>
              </a:rPr>
              <a:t>الفصل الأول: ماهية التقارير المالية والمستفيدون منه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B5BCE-5759-439C-AA1E-B716E07649EA}" type="slidenum">
              <a:t>6</a:t>
            </a:fld>
          </a:p>
        </p:txBody>
      </p:sp>
    </p:spTree>
  </p:cSld>
  <p:transition>
    <p:random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574560" y="1268280"/>
            <a:ext cx="7993080" cy="1035360"/>
          </a:xfrm>
          <a:prstGeom prst="downArrowCallout">
            <a:avLst>
              <a:gd name="adj1" fmla="val -180360"/>
              <a:gd name="adj2" fmla="val 193002"/>
              <a:gd name="adj3" fmla="val 16667"/>
              <a:gd name="adj4" fmla="val 66667"/>
            </a:avLst>
          </a:prstGeom>
          <a:solidFill>
            <a:srgbClr val="eaeaea"/>
          </a:solidFill>
          <a:ln w="381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ثالثاً: تقرير مجلس الإدار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940360" y="6461280"/>
            <a:ext cx="2895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74560" y="2708280"/>
            <a:ext cx="7993080" cy="266220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 rtl="1">
              <a:lnSpc>
                <a:spcPct val="15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يتضمن معلومات عامة عن المنشأة وأهدافها ومركزها المالي والتسويقي، ومعلومات عن الإنتاج ودرجة نمو المبيعات والأرباح والعوامل المؤثرة في نشاط المنشأة مستقبلاً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ولا تخضع المعلومات الواردة فيه لمراجعة مراقب الحسابات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629240" y="115920"/>
            <a:ext cx="426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9090d"/>
                </a:solidFill>
                <a:latin typeface="Times New Roman"/>
                <a:cs typeface="Andalus"/>
              </a:rPr>
              <a:t>الفصل الأول: ماهية التقارير المالية والمستفيدون منه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6A7CA-8950-4B2F-BC4A-CDCCFD9EAEA5}" type="slidenum">
              <a:t>7</a:t>
            </a:fld>
          </a:p>
        </p:txBody>
      </p:sp>
    </p:spTree>
  </p:cSld>
  <p:transition>
    <p:random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74560" y="1268280"/>
            <a:ext cx="7993080" cy="1035360"/>
          </a:xfrm>
          <a:prstGeom prst="downArrowCallout">
            <a:avLst>
              <a:gd name="adj1" fmla="val -180360"/>
              <a:gd name="adj2" fmla="val 193002"/>
              <a:gd name="adj3" fmla="val 16667"/>
              <a:gd name="adj4" fmla="val 66667"/>
            </a:avLst>
          </a:prstGeom>
          <a:solidFill>
            <a:srgbClr val="eaeaea"/>
          </a:solidFill>
          <a:ln w="381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رابعاً: تقرير الإدارة التنفيذ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940360" y="6461280"/>
            <a:ext cx="2895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74560" y="2708280"/>
            <a:ext cx="7993080" cy="266220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 rtl="1">
              <a:lnSpc>
                <a:spcPct val="15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يتضمن معلومات أكثر تفصيلاً من تقرير مجلس الإدارة، كالأصول والالتزامات وحقوق الملكية والتغيرات التي حدثت عليها خلال السنة المالية، ومعلومات عن العقود الجديدة وسياسة توزيع الأرباح والعاملين والخدمات المقدمة لهم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إلزامي في بعض الدول كبريطاني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629240" y="115920"/>
            <a:ext cx="426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9090d"/>
                </a:solidFill>
                <a:latin typeface="Times New Roman"/>
                <a:cs typeface="Andalus"/>
              </a:rPr>
              <a:t>الفصل الأول: ماهية التقارير المالية والمستفيدون منه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DAB51-59B4-4658-A948-7BD6275140FA}" type="slidenum">
              <a:t>8</a:t>
            </a:fld>
          </a:p>
        </p:txBody>
      </p:sp>
    </p:spTree>
  </p:cSld>
  <p:transition>
    <p:random/>
  </p:transition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85800" y="704880"/>
            <a:ext cx="7772400" cy="1571760"/>
          </a:xfrm>
          <a:prstGeom prst="downArrowCallout">
            <a:avLst>
              <a:gd name="adj1" fmla="val -122318"/>
              <a:gd name="adj2" fmla="val 123626"/>
              <a:gd name="adj3" fmla="val 16667"/>
              <a:gd name="adj4" fmla="val 66667"/>
            </a:avLst>
          </a:prstGeom>
          <a:gradFill rotWithShape="0">
            <a:gsLst>
              <a:gs pos="0">
                <a:srgbClr val="ccccff"/>
              </a:gs>
              <a:gs pos="50000">
                <a:srgbClr val="ffffff"/>
              </a:gs>
              <a:gs pos="100000">
                <a:srgbClr val="cccc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مستفيدون من التقارير المال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940360" y="6461280"/>
            <a:ext cx="2895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050920" y="2492280"/>
            <a:ext cx="5040360" cy="3529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bd1a1"/>
              </a:gs>
              <a:gs pos="50000">
                <a:srgbClr val="ffffff"/>
              </a:gs>
              <a:gs pos="100000">
                <a:srgbClr val="ebd1a1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5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 إدارة المنشأ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5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 ملاك المنشأة والمستثمرون المحتملو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5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 دائنو المنشأة والبنو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5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 الجهات الحكوم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5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 مراكز الدراسات والبحوث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629240" y="115920"/>
            <a:ext cx="426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9090d"/>
                </a:solidFill>
                <a:latin typeface="Times New Roman"/>
                <a:cs typeface="Andalus"/>
              </a:rPr>
              <a:t>الفصل الأول: ماهية التقارير المالية والمستفيدون منه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70A34-FE87-4A5D-8812-DE7A691B0E62}" type="slidenum">
              <a:t>9</a:t>
            </a:fld>
          </a:p>
        </p:txBody>
      </p:sp>
    </p:spTree>
  </p:cSld>
  <p:transition>
    <p:random/>
  </p:transition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28T10:54:15Z</dcterms:created>
  <dc:creator>**</dc:creator>
  <dc:description/>
  <dc:language>en-US</dc:language>
  <cp:lastModifiedBy>saeed dawas</cp:lastModifiedBy>
  <dcterms:modified xsi:type="dcterms:W3CDTF">2004-05-30T22:41:08Z</dcterms:modified>
  <cp:revision>21</cp:revision>
  <dc:subject/>
  <dc:title>التحليل المالي والائتماني</dc:title>
</cp:coreProperties>
</file>